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31553"/>
        <c:axId val="94053589"/>
      </c:barChart>
      <c:catAx>
        <c:axId val="37431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3589"/>
        <c:crosses val="autoZero"/>
        <c:auto val="1"/>
        <c:lblAlgn val="ctr"/>
        <c:lblOffset val="100"/>
        <c:noMultiLvlLbl val="0"/>
      </c:catAx>
      <c:valAx>
        <c:axId val="94053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1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682-6F02-4D51-9A80-0F6D6A4A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08B-5AB7-4DF5-8424-9DA5B194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46E-9815-4C11-9634-ADE36567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895-2A53-4C20-83BF-4F296492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3E4-F240-4992-BD75-5319430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29B-2F2A-4471-87CE-4141E74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7B2-A161-4400-94DA-F99D30A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001-ECA9-4AD2-9225-A26FCF4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216-C4D8-4E71-A6E5-1E461121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553-AD19-45CE-87DF-BDD5D16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B16-8F3B-4803-84F5-F622AEE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D90-8AE4-4B29-906C-FC60A00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1242-AAEC-46C9-ACCB-4E1C6CE76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